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807EE-2569-423D-ACEF-374A99105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A81CB-95D0-4B7C-B963-94D5943B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99058-1890-4997-A744-D2462CF3B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75A31-4C8B-4A66-8B68-0CD20C637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F9B3-6A3A-43F2-B990-186F1551D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3B77-B654-40CA-85B4-23580A17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95ABE-17B9-4827-B1BE-9C71EFC8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5A8D-1E17-40D4-AE62-3E8AE53A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A70C-E996-4280-B5B1-8FF4A903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8EB04-DFF8-4EA0-86F7-9E25694E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B5474-C447-4EB2-9BA7-9F431F32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DD36B-1709-4137-ACF5-EC8A73C0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E5CE-20B7-435A-A796-8BBE6143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119B-1A72-4420-9611-EF5A6485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B440-4D58-4C87-BE9A-5E8AAD47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86F26-6EE7-4DEB-B76B-BC018F3FF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A506-6E8F-4138-9D1C-588B566F5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8555B-BEEA-40DB-BCE4-13BD16AD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9AA3F-BBA9-44F6-AD3E-A3A000E2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0B5FD-CCF4-4220-92F7-21475C87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80691-2745-42A9-9506-EC64E5F7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0849D-44C2-4710-B8D5-7EC9ECA5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78B3F-260A-4F11-82D6-C0F61A85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7158C-C580-42A6-840E-D714F4C1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A492-6C9D-4091-A1DA-B1DF34DB34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1038-8E66-4B41-9EE3-5928065942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Las Comida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028840" y="205740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Jessica Wrigh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ara el desayuno me gusta comer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2590560" cy="21286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33520" y="34290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El cere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3429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os panqueq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857680" cy="1957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629400" y="1219320"/>
            <a:ext cx="2133720" cy="2133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553080" y="34290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os hue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60958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El toci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380880" y="388620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3505320" y="4038480"/>
            <a:ext cx="2819160" cy="1873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505320" y="609588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as fru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6629400" y="3886200"/>
            <a:ext cx="2127240" cy="2133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629400" y="6095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a le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 el almuerzo me gusta comer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2438640" cy="2239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80880" y="35812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El bacadil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124080" y="1295280"/>
            <a:ext cx="3005280" cy="20005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6720" y="358128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as papas fri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80880" y="4191120"/>
            <a:ext cx="2743200" cy="1827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28600" y="60958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a ensal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6477120" y="1143000"/>
            <a:ext cx="2324160" cy="23241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400800" y="35812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a sop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3505320" y="4114800"/>
            <a:ext cx="2895480" cy="1936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505320" y="60958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a hamburgue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6781680" y="40384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78168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a limon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 la cena me gusta comer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38862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a car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95880" y="38862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as pap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477120" y="12193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895480" y="1371600"/>
            <a:ext cx="3295800" cy="24717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895480" y="38098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El arro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2819520" y="4191120"/>
            <a:ext cx="3395520" cy="22446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819520" y="6400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os panecill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228600" y="4191120"/>
            <a:ext cx="2209680" cy="22096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28600" y="64008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as judías ver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6400800" y="4343400"/>
            <a:ext cx="2743200" cy="18194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400800" y="64008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a agu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 el postre me gusta comer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2438280" cy="2376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52280" y="37339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El helado de chocol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971800" y="1219320"/>
            <a:ext cx="2895480" cy="2357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895480" y="37339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as galle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6172200" y="1219320"/>
            <a:ext cx="2590920" cy="2455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172200" y="3809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a tor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0" y="4114800"/>
            <a:ext cx="2895480" cy="2171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0" y="63244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El past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3505320" y="4114800"/>
            <a:ext cx="2819160" cy="2114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505320" y="632448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as fru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6934320" y="4114800"/>
            <a:ext cx="1531800" cy="21337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781680" y="6324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a le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250" autoRev="1" fill="hold"/>
                                        <p:tgtEl>
                                          <p:spTgt spid="1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2:08:33Z</dcterms:created>
  <dc:creator>jessica</dc:creator>
  <dc:description/>
  <dc:language>en-US</dc:language>
  <cp:lastModifiedBy>jessica</cp:lastModifiedBy>
  <dcterms:modified xsi:type="dcterms:W3CDTF">2012-04-05T17:06:27Z</dcterms:modified>
  <cp:revision>9</cp:revision>
  <dc:subject/>
  <dc:title>Las Comidas</dc:title>
</cp:coreProperties>
</file>